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BC3-155F-45E4-9EA2-2F259AEF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40C-49EF-4A19-AE6B-82AB6089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AD0-6E6F-4D7F-A2A4-B381A188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EB0-ADED-4D4D-BD46-2E483AD6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CEA-020C-480B-B60A-7B9B1CA2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9C8B-74C9-4FA5-A393-C2B234F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E417-0A99-4196-9861-5060FC4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2DA-93F9-4CD2-B849-DCCA0525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9C1-1B42-42E4-B5D2-81F89F94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811-231F-4368-AFB4-F4805DC9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38F7-0211-4293-9105-6A3AC11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707-07A4-4D9F-A813-9350E04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C3E-FDD9-4E83-B5EE-AD70DFBC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402-479E-4873-BBE1-DC36C6F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8B9-D0F6-4246-BFDF-3F52EC1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59B-90EF-4D92-9983-0C40D942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72C-5F89-4654-8620-7264CB5A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87-0438-41EC-8D63-C812B11A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9E2-020D-4DA2-ADF9-98AFA99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84A-853F-4C26-98E8-401B7F69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358-D9E2-4598-97D3-61D5D263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E9C-6B26-4757-9744-B4BB8D0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394-45B5-41CE-9681-90F544B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E8A-C015-4EE5-8717-1736D91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28C-3308-4A2C-B56F-62F0E123FB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6F7-E047-45D7-A7C3-978F59962A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БОЛНИЧКЕ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ИНФЕКЦИЈ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. ИНФЕКЦИЈЕ КОШТАНО-ЗГЛОБ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Остеом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ел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Инфекција зглоба и бурзе                  3. Инфекција интервертебралног просто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. ИНФЕКЦИЈЕ КАРДИОВАСКУЛАР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Артеритис и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леб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Енд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Мy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 или пе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Медиастин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. ИНФЕКЦИЈЕ ЦЕНТРАЛНОГ НЕРВ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Интракранијална инфек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Менингитис или вент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л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Спинални апсцес без менингити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I. ИНФЕКЦИЈЕ ОКА, УХА И НО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њ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к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в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Друге инфекције о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Отитис еx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Отитис меди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 Отитис ин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. Мастои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Син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X. ИНФЕКЦИЈЕ СИСТЕМА ЗА ВАРЕЊ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усне дупље (уста, језика и десни)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Гастроентер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Некротизирајући ентеро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литис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једњака, желуца и цре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Хепа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Интраабдоминална инфекциј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. ИНФЕКЦИЈЕ СИСТЕМА ЗА ДИСАЊЕ (изузев пнеумониј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горњег дела система за дисањ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Бронхитис, трахеитис, трахеобронхитис и 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ронхиол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Друге инфекције доњег дела система за дисањ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. ИНФЕКЦИЈЕ ПОЛ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Ендометр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а епизиотомиј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вагиналног свод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Друге инфекције мушког и женског полног систем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. ИНФЕКЦИЈЕ КОЖЕ И МЕКИХ ТКИ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е кож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е меких тки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декубитусног улкус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опекотин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Апсцес дојке или мас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Ом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литис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. Пустулоза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8. Инфекција места циркумцизије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I. СИСТЕМСК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отребно је да сви здравствени радници буду упознати са ризиком настанка инфекција и путевима трансмисије патоге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2202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 процену ризика трансмисије неопходно је узети у обзир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гућност, квалитет, квантитет и дужину контакта са инфективним извор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нтагиозност узрочног микроорганизма, укључујући његову способност преживљава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цедуре и кораке предузете од здравственог радника да избегне инфекциј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757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јважније заразне болести које могу пренети здравствени радниц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Кожне инфекциј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aphylococcus Aureus, Streptococcus grupe A, Herpes simple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Црев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тна дијареја –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almonella spp, Campyulobacter</a:t>
            </a:r>
            <a:r>
              <a:rPr b="0" i="1" lang="sr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p, Hepatitis A)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Респиратор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зеб, грип, ТБЦ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Болести које се преносе крвљ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ХБВ, ХИВ, ХЦВ, АИД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изик за трансисију ХИВ је 100 пута нижи од ризика за ХБ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акциналне болести (Varicela zoster, морбил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јчешћи тип нозокомијалних инфе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овезано са ношењем уринарних катете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зазване су различитим патогенима, од којих многи улазе у састав ендогене флоре дебелог црева, нпр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scherichia coli, Klebsiella spp, Proteus spp, Enterococcus spp, Enterobacter sp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топа инфекције расте са дужином ношења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јчешћи разлози за продор бактерија у мокраћну бешику за време катетеризације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штовање принципа асепсе при постављању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стојање везе између катетера и дренажног кан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нтаминација за време ириг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лонизација дренажне кесе и рефлукс контаминираног урина у мокраћну бешик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лни уринарни катет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имена уролошких инструм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рији узра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Женски п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ешка основна боле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авни извор Мб и Мт оперисаних –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1/3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вих ИХ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ују хоспитализ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дужен преоперативни боравак у болниц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оперативно бријање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оштећење коже, колонизациј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ужина операције (&gt; 2 сат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Хируршка тех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итивна култура оперативног места + удаљена инфек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тање пацијента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јазност, малнутриција, дијабетес и с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ДЕФИНИЦИЈА БОЛНИЧКЕ</a:t>
            </a:r>
            <a:br>
              <a:rPr sz="3200"/>
            </a:b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Болничка ( интрахоспитална,  нозокомијална или кућна) инфекција је инфекција настала у пацијената и особља у болници или некој другој здравственој установ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За потребе епидемиолошког надзора болничка инфекција се дефинише као локално или системско обољење (стање) које је резултат непожељне реакције организма на присуство инфективног агенса (једног или више) или његових токсина, а које није било присутно нити је пацијент био у инкубацији приликом пријема у болницу или неку другу здравствену установ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* Категоризација оперативног места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према степену микробне контаминације)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примарно затворене ра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о-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дире се у респираторни, дигестивни, генитални или уринарни систем под контрол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ворене свеже ране или операције са великим нарушавањем асептичне технике уз присуство инфициранх урина или жуч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Прљава и инфиц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таре трауматичне ране са девитализованим ткивом, старим телима или фекалном контаминациј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Једна од најчешћих ИХИ (нарочито у јединицама интензивне неге с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јвећим М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од свих ИХ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~ 30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ава хоспитализацију и поскупљује леч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фактори који повећавају фреквенцију аспирације, количину или патогеност инокулираних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кроорганизама, оштећују локалну одбрану респираторног тракта и општи имунитет. Од највећег значаја су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еханичка вентилација и трахеална интуб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већини случајева у вези су са употребом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нтраваскуларних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т је висок (25-6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марне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з препознатог фокуса инфекције на неком другом анатомском месту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екундарн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 последица документоване инфекције другог анатомског места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тиологија - Коагулаза негативни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taphilococci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/4 ИК),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Enterococc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Candid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pp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Фактори ризика: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јмлађи и најстарији узрас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ранулоцитопен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муносупресивна хемиотерап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убитак интегритета коже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нпр. опекотине, псоријаз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жина основне боле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исуство удаљене инфекциј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рст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пластични &gt; челични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еличи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Број луме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Локациј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централни &gt; периферни; в. феморалис &gt; в. југуларис / в. субклавиус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чин постављањ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дубоко &gt; перкутано; ургентно &gt; елективно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ужина стајањ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штећење пацијентове кожне микрофлор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епоштовање праксе прања руку персона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НАЧАЈ Б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естал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жина 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ена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 продужена хоспитализа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повећана нега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лек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ЕНА у зависности од: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врсте проузроковач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окализације инфек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атологије основне боле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БОЛНИЧК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ГУЋЕ СМАЊЕЊЕ СТОПЕ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активни епидемиолошки надз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е писане препору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особље (сестра за БИ, епидемиоло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sr-CS" sz="3200" spc="-1" strike="noStrike" u="sng">
                <a:solidFill>
                  <a:srgbClr val="006666"/>
                </a:solidFill>
                <a:uFillTx/>
                <a:latin typeface="Arial"/>
              </a:rPr>
              <a:t>Центар за контролу болничких инфекција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400" spc="-1" strike="noStrike" u="sng">
                <a:solidFill>
                  <a:srgbClr val="ee3054"/>
                </a:solidFill>
                <a:uFillTx/>
                <a:latin typeface="Arial"/>
              </a:rPr>
              <a:t>1.</a:t>
            </a:r>
            <a:r>
              <a:rPr b="0" lang="en-US" sz="2400" spc="-1" strike="noStrike">
                <a:solidFill>
                  <a:srgbClr val="ee3054"/>
                </a:solidFill>
                <a:latin typeface="Arial"/>
              </a:rPr>
              <a:t> (мере чија је ефикасност доказана у студ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епса током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ечења (уринарна сонда, ив-катетер, вештачка вентилациј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изол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ерилизација и дезинфекција медицинско-хируршког материј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финисање правилног коришћења антибиотика и антибиопрофилаксе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током 24 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5636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ДЦ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692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2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ефикасност мера доказана на основу искуств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ишћење болниц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нтрола и едукац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3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сумњива ефикасност, одбачене, контраверзн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утински бактериолошки брисеви радних површина и особљ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зинфекција подо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контаминација ваздуха у болесничким собама УВ лампа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вршна дезинфекција формалин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тернерне амонијумове базе за антисепсу кож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увци за обућ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ирачи на улазу у одељење са антисептик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дикације за уринарни катетер свести на миниму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ити дужину ношења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ристити затворени сист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штовати мере асепсе током постављања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тетера и ра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ање руку (антисептично), рукавице пр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вљањ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ианална тоал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ЈЕДНА ИНФЕКЦИЈА СМАТРАЋЕ СЕ БОЛНИЧК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болници и постала евидентна 48 сат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(типичан инкубациони период за већину бактеријских болничких инфекција) после пријема пацијента у болницу, или кас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утврди да је повезана са хирушком интервенцијом, а испољи се у току 30 дана после хирушке интервенције у случају да имплантат није уграђен, или у току једне године ако је уграђ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испољила после отпуста пацијента из болнице, а епидемиолошки подаци показују да је настала у болниц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новорођенчета као резултат пролаза кроз порођајни канал мај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Дискутабил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нтирефлуксна валвула на кес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Убацивање антисептика или антибиотика у кес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оришћење катетера импрегнираних АБ ил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солима 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Штет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Иригација мокраћне бешике АБ или антисепти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ИНФЕКЦИЈА ОПЕРАТИВНОГ МЕС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ПРЕ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дужину боравка у болници пре операциј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одификовати факторе домаћина (контрола гликемије, смањење ТТ, поправити малнутрицију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Преоперативно купањ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Бријање? (електрично, крема, дан раније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Антибиопрофилакса (24 х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ТОКОМ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триктно поштовање антисепсе кож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Хируршко прање рук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аске, одело, кап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Рукавиц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број присутних у операционој сал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Ваздух: позитивни притисак, обнављање 15 пута/са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ОСТОПЕРАТИВНЕ МЕР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Над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Едукација особља и надзор над БИ (не узимати рутинске брисеве од пацијената и опрем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РЕВЕНЦИЈА ЕГЗОГЕН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ошење рукавица за негу особа на вештачкој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ентилациј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езинфекција материј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воду за оксигенотерапију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еросоле и хумидат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назалну сонд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езервоар хумидатора мора бити опран, дезинфикован, испран и осушен сваког да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рева хумидатора мењати на 48 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ЕНДОГЕНОГ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ДОЊИХ РЕ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ГОРЊИХ РЕ-ДИГ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ОПШТЕ МЕРЕ ПРЕВЕН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Е И СТАЊА КОЈА СЕ НЕ СМАТРАЈУ БОЛНИЧКОМ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О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мпликација раније настале инфекције или продужење инфекције присутне при пријему (осим ако промена узрочника или знакова и симптома не указују јасно на настанак нове инфекциј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лонизација, тј. присуство микроорганизама (на кожи, слузницама, у отвореним ранама или у екскретима и секретима) који не проузрокују клиничке знаке и симптом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ламација, стање које настаје као одговор ткива на повреду или стимулацију незаразним (неинфективним) агенсима, као што су хемикалије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екција новорођенчета за коју се зна или докаже да је настала трансплацентарно  (нпр. токсоплазмоза, рубела, цитомегало­вирусна инфекција,  или сифилис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Е ИХ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За утврђивање присуства и класификацију ИХИ користе се комбинациј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клиничких нала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лабораторијских тестова 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ругих дијагностичких поступа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Ни превентабилност ни неизбежност</a:t>
            </a:r>
            <a:r>
              <a:rPr b="0" i="1" lang="sl-SI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једне инфекције не узимају се у разматраје при одређивању да ли је она болничка или 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 ДЕФИНИЦИЈЕ ИХ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ефиниције ИХИ које се користе за епидемиолошки надзор нису намењене за друге сврх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Не постоји специфично време у току или после хоспитализације које би детерминисало једну инфекцију као болничку (изузеци су дати у дефиниц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Свака инфекција мора бити индивидуално процењена како би се доказала њена повезаност са хоспитализациј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А ЕПИДЕМИЈЕ БОЛНИЧКЕ 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Појава болничких инфекција изазваних истим узрочником у броју који превазилази уобичајену учесталост у одређеној групи пацијената у датом временском перио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Болничке инфекције које чине епидемију епидемиолошки су повезане, не само по месту и времену јављања, већ и по предузетим поступцима у дијагностиц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 нези и лечењу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ЕРВОАРИ  ИХ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езервоар:  жива и нежива средина у којој инфективни агенс може да преживи и да се размножавана такав начин да може да се пренесе на осетљивог домаћ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дравствени</a:t>
            </a:r>
            <a:r>
              <a:rPr b="1" lang="en-US" sz="18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радници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ацијен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у најзначајниј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и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и нозокомијалних агена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д </a:t>
            </a:r>
            <a:r>
              <a:rPr b="1" lang="en-US" sz="1800" spc="-1" strike="noStrike">
                <a:solidFill>
                  <a:srgbClr val="ee3054"/>
                </a:solidFill>
                <a:latin typeface="Arial"/>
              </a:rPr>
              <a:t>неживи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а најзначајнији извори су они који се односе на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воду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друге</a:t>
            </a:r>
            <a:r>
              <a:rPr b="1" lang="en-US" sz="1800" spc="-1" strike="noStrike" u="sng">
                <a:solidFill>
                  <a:srgbClr val="1f8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40240" y="23954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 ИНФЕКЦИЈЕ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Површинс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убо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Инфекција органа/простора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Симптоматска инфекција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Асимптоматска бактериур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руге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ПНЕУМО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ИНФЕКЦИЈЕ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Лабораторијски потврђена инфекција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Клинички потврђена инфекција крви - сеп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20:33:35Z</dcterms:created>
  <dc:creator>Gordana</dc:creator>
  <dc:description/>
  <dc:language>en-US</dc:language>
  <cp:lastModifiedBy> </cp:lastModifiedBy>
  <dcterms:modified xsi:type="dcterms:W3CDTF">2017-01-09T10:50:26Z</dcterms:modified>
  <cp:revision>11</cp:revision>
  <dc:subject/>
  <dc:title>BOLNIČKE INFEK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rdana Đorđević">
    <vt:lpwstr>Medicinski fakultet Kragujevac</vt:lpwstr>
  </property>
</Properties>
</file>